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9DD-2214-4FDC-AC76-5A7FD4FF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072-7A3F-4393-8AB4-B75E4CF1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CF5-8D8E-46EC-906A-206F5134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0E1-F933-45D7-899D-1D5152F9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703D-81AC-4416-8C7F-641BC78C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46D1-5E5D-4660-A6D0-93804C51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AA6E-B20F-4C51-B5A0-F8802733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6DC8-C01A-454B-A454-68E6A26F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418-6172-49A5-8406-1CE86E61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256-24FE-4607-B73F-94DE7D7F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56A4-9708-49C0-BFD3-4C6427A4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ADB-9B54-4B53-BB2C-86889B83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43F7-F019-4091-A075-EDD177A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B0D-806C-4AB8-B432-AF46CA7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2FA3-3AE9-4F31-933C-A628A78C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E969-F2C6-4213-B43A-757BD874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B82-72DD-4B64-B5EC-16FF8B19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EE8-AC2C-44B5-8A67-40D3047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F44-852D-466E-AE4F-A995D276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41B-05AF-49BE-BE8F-8EED7EFF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14F-12C4-4F4F-AB01-5EA3CAA3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D32-8E41-4B9C-BF27-79AC33C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5F0-9524-4347-890B-D6FFC29A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328-E15D-4203-869E-249701E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77C1-9AEB-4A79-8352-B5852AE04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309-B8DA-41B4-AC6E-3037CB2C9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Anatomy of a Multimedia Projec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12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ducing the Appli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llowing the user interface design, text, sounds, and images are incorporated into pages or screen display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esting the Appli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application is tested to ensure that the sections work together correctly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ha testing involves testing sections as the producer fini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all sections are complete, the entire application is tes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rge application may also be beta tes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fining a Projec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ral steps are required to define a multimedia project. They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with the client to determine the project’s budget and dead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project’s overall purpose and specific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the audience who will use or view the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how the application will be deliver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echnical and conten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ject Design Phas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fter the team has analyzed the application’s objectives, audience, and requirements, the project enters the design phas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a project plan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project plan generally specifies the project’s scope, its personnel and other resource requirements, its schedule, and its budget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fining Project Scop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team sets priorities and collaborates about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lication’s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lication’s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ardware and software it will invol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962520" cy="336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fining the Project Schedul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ith input from the team, the project manager draws up a schedule for developing the application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95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signing the User Interfac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user interface designer creates a navigation map. Navigation schemes can b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a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chica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linea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veloping an Appli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ce the project plan is approved, the team begins creating the application. This includ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ten 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 and visual 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reating Application Conten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s includ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the text for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ng, creating, and editing the audio and visual components of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instructions for using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36:22Z</dcterms:created>
  <dc:creator>Danielle Perkins</dc:creator>
  <dc:description/>
  <dc:language>en-US</dc:language>
  <cp:lastModifiedBy>GLENCOE</cp:lastModifiedBy>
  <dcterms:modified xsi:type="dcterms:W3CDTF">2003-01-04T01:54:27Z</dcterms:modified>
  <cp:revision>11</cp:revision>
  <dc:subject/>
  <dc:title>Chapter 12Anatomy of a Multimedia Project</dc:title>
</cp:coreProperties>
</file>